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E3D9-4BD8-4D60-AAC9-8F62F22C91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82D2-C68E-4577-B68E-9303D3664F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E04-0E1E-4075-81A3-2393178D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009-1748-445C-AC6C-717A512B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ED9-1068-4A31-BB6F-2C1B1F05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696-092C-4C85-92E2-75C1EE5A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865-8419-4053-8ACF-5BB1AD65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7BA-C34E-4885-9284-34730551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D5D-0CF5-4A1B-AFD7-7BDB8F39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1C5-3A1A-4448-BEC6-AE8B5ADF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9EB-7E83-42D4-A34C-48C33B26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85F-5C3F-4317-BFB4-EAF1A102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8D9-07A8-48EB-948B-2E82C2F5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48B-0757-46C4-91FB-59EC3721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488D-5BE5-460B-BDF8-5C27A2D640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ea92d"/>
                </a:solidFill>
                <a:latin typeface="Arial"/>
              </a:rPr>
              <a:t>Загрязнение окружающей сре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стощение природных ресур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ботка полезных ископаемых до степени нерентабельности дальнейшей разраб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ышение темпов и объемов добычи над способностью естественного возобновления возобновляемых ресур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еруб леса, перелов рыбы, перевыпас скота и сбой пастбищ, несоблюдение агротехнических мероприятий при обработке почвы и истощение их плодородия, загрязнение водотоков и водоемов промышленными отходами так, что их невозможно практически использовать, загрязнение воздуха в крупных городах и т. д. И. п. р. бывает и естественным. Например, быстрое размножение ондатры привело в некоторых районах к истреблению ее кормов и гибели зверька; размножение норки — к исчезновению некоторых видов рыб — ее пищ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развитием и прогрессом общества нарастает использование природных ресурсов, поэтому возникает проблема предотвращения этого процес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4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228600" y="57146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school.ru/gallery/pag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038480" y="1409760"/>
            <a:ext cx="4724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форма — реакция на разрушительную деятельность человека в окружающей среде. В отличие от потребления, это осознанная форма общественной и государственной деятельности, направленная на сохранение и воспроизводство природных ресурсов. Будучи вторичной формой взаимодействия общества и природы, охрана природы возникает и совершенствуется по мере роста потребления и использования природной среды. Охрана появляется и совершенствуется там, где возникает угроза уничтожения природной среды, где возникает и развивается потребление прир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Поэтому нельзя считать рациональным такое бережное, экономное, эффективное использование природных ресурсов, которое оставляет глубокий отрицательный след на состоянии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6"/>
          <p:cNvPicPr/>
          <p:nvPr/>
        </p:nvPicPr>
        <p:blipFill>
          <a:blip r:embed="rId1"/>
          <a:stretch/>
        </p:blipFill>
        <p:spPr>
          <a:xfrm>
            <a:off x="304920" y="1143000"/>
            <a:ext cx="3200400" cy="4602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0" y="5866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erdsk-city.ru/provedyon-monitoring-zagryazneniya-okruzhayushhej-sredy-berdsk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886200" y="15076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еобходим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истка вредных выбросов( например, с помощью фильтр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чистных сооруж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ение самих причин загрязнения, что требует разработки малоотходных, а в перспективе и безотходных технологий производства, которые позволяли бы комплексно использовать исходное сырье и утилизировать максимум вредных для биосферы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в учебных заведениях экологического воспитания, формирующем уважение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тоге можно сказать, что проблема охраны окружающей природной среды во всех ее трех формах — консервативной, рационального использования природных ресурсов и оздоровления окружающей человека среды — из региональной постепенно превращается в национальную, а затем и международную проблему, решение которой зависит от совместных усилий всего международного сообщества. Для глобального решения проблемы необходимо обеспечить взаимодействие международной охраны окружающей среды, связанной с выполнением международных обязательств и договоров, и национальной и региональной охраны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природной среды вредными для человека отходами, истощение природных ресурсов и угроза разрушения экологических связей в природе неуклонно приводит к мировому кризи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виев В.Н. Экологическое право. К.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шученко Ю.С. Правовые проблемы экологии. Киев, 198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 В.В. Экологическое право России, М., 1997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bestreferat.ru/referat-6220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 актуальность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основные источники загрязнения окружающей ср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и решения проблемы загрязнения окружающей сред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вед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ая природная среда служит условием и средством жизни человека, территории, на которой он проживает, пространственным пределом осуществляемой государственной власти, местом для размещения объектов промышленности, сельского хозяйства и других объектов культурно-бытового назна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воздействует на естественную среду своего обитания не только потребляя ее ресурсы, но и изменяя природную среду, приспосабливая ее для решения своих практических, хозяйственных задач. В силу этого человеческая деятельность оказывает существенное влияние на окружающую среду, подвергая ее изменениям, которые затем влияют и на сам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Формы взаимодействия человека с окружающей сред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требление природы человеком, использование природы для удовлетворения человеком своих материальных и духовных потре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это охрана окружающей природной среды с целью сохранения человека как биологического и социального организма и его естественной среды оби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е использование природных ресурс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гативная деятельность человека по отношению к природной среде проявляется объективно в трех взаимосвязанных формах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щение природны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ушение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гряз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среды подразделяется на несколько в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е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(в том числе загрязнение почвы химикат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ома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ое (изменение температур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ом загрязнения окружающей природной среды выступает хозяйственная деятельность человека (промышленность, сельское хозяйство, транспо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з всех видов загрязнения можно выделить основны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5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ТИПЫ ЗАГРЯЗН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епловое, шумовое, электромагнитно, световое, радиоактивн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яжелые металлы, пестициды, пластмассы и др. химические вещества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иогенное, микробиологическое, генетическ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нформационный шум, ложная информация, факторы беспокой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304920"/>
          <a:ext cx="8229600" cy="579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1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грязнение окружающей сре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источники загряз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вредные вещества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овые электроста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углерода, серы, азот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ческие соединения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ая пы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чные вод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ечки нефти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транспо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епродук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ходы промышленности и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го хозяйств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чное использова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рени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масс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ин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грязнению подвергаются атмосфера (воздушная среда), гидросфера (водная среда) и литосфера (твердая поверхность)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2057400" y="6168240"/>
            <a:ext cx="50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news-zwezd.ru/pages-view-34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рубин Сергей Александрович</cp:lastModifiedBy>
  <dcterms:modified xsi:type="dcterms:W3CDTF">2012-09-05T10:35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